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7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8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4936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101" idx="3"/>
            <a:endCxn id="98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101" idx="3"/>
            <a:endCxn id="99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6021360" y="1494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ildung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4" action="ppaction://hlinksldjump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21360" y="55468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Verteilungs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1" idx="3"/>
            <a:endCxn id="103" idx="1"/>
          </p:cNvCxnSpPr>
          <p:nvPr/>
        </p:nvCxnSpPr>
        <p:spPr>
          <a:xfrm flipV="1">
            <a:off x="3313080" y="2054880"/>
            <a:ext cx="2708640" cy="202752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6" name=""/>
          <p:cNvCxnSpPr>
            <a:stCxn id="101" idx="3"/>
            <a:endCxn id="104" idx="1"/>
          </p:cNvCxnSpPr>
          <p:nvPr/>
        </p:nvCxnSpPr>
        <p:spPr>
          <a:xfrm>
            <a:off x="3313080" y="4082040"/>
            <a:ext cx="2708640" cy="202608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ymph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97840" y="54936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Lymph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Glukokortikoi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11" idx="3"/>
            <a:endCxn id="109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2" name=""/>
          <p:cNvCxnSpPr>
            <a:stCxn id="111" idx="3"/>
            <a:endCxn id="113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942480" y="549360"/>
            <a:ext cx="27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Lymphopen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Bildung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5" action="ppaction://hlinksldjump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be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ytostatika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ukokortikoi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96920" y="549360"/>
            <a:ext cx="600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ymphopen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ild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Einfluss von Glukokortikoi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6" idx="3"/>
            <a:endCxn id="11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yperadrenokortizism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abe von Glukokortikoid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tres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irusinfe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1" idx="3"/>
            <a:endCxn id="124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5" name=""/>
          <p:cNvCxnSpPr>
            <a:stCxn id="121" idx="3"/>
            <a:endCxn id="122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6" name=""/>
          <p:cNvSpPr/>
          <p:nvPr/>
        </p:nvSpPr>
        <p:spPr>
          <a:xfrm>
            <a:off x="896760" y="549360"/>
            <a:ext cx="301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Lymphopen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Glukokortikoi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ukokortikoi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3040" y="549360"/>
            <a:ext cx="67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ymphopen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Zerstörung &gt; Einfluss von Glukokortikoi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8" idx="3"/>
            <a:endCxn id="13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yperadrenokortizism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abe von Glukokortikoid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tres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irusinfe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4840" y="549360"/>
            <a:ext cx="49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ymphopen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Zerstörung &gt; Virusinfe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3" idx="3"/>
            <a:endCxn id="13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arvovir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eLV-Infektio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IV-Infektio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taup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640" y="6153480"/>
            <a:ext cx="322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eLV = felines Leukämieviru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V = felines Immundefizienzviru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40" idx="3"/>
            <a:endCxn id="141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2" name=""/>
          <p:cNvSpPr/>
          <p:nvPr/>
        </p:nvSpPr>
        <p:spPr>
          <a:xfrm>
            <a:off x="836640" y="549360"/>
            <a:ext cx="27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ymphopen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12000" y="351792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intestin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ymphangiektas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5" idx="3"/>
            <a:endCxn id="146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47" name=""/>
          <p:cNvCxnSpPr>
            <a:stCxn id="145" idx="3"/>
            <a:endCxn id="148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9" name=""/>
          <p:cNvSpPr/>
          <p:nvPr/>
        </p:nvSpPr>
        <p:spPr>
          <a:xfrm>
            <a:off x="835920" y="549360"/>
            <a:ext cx="40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Lymphopen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Verteilungs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teilungs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Chylothorax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ultizentrisch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ympho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7T11:12:15Z</dcterms:modified>
  <cp:revision>333</cp:revision>
  <dc:subject/>
  <dc:title>Vorstellung einer Neuheit</dc:title>
</cp:coreProperties>
</file>